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BD86-C5A8-4252-B343-2D7DC4B3955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5F1C-A9D9-4C95-84F6-8394F4ADBA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4C19-2C93-40FA-B416-200006CC79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blue bar small"/>
          <p:cNvPicPr/>
          <p:nvPr/>
        </p:nvPicPr>
        <p:blipFill>
          <a:blip r:embed="rId2"/>
          <a:stretch/>
        </p:blipFill>
        <p:spPr>
          <a:xfrm>
            <a:off x="0" y="0"/>
            <a:ext cx="8982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0" descr="logo2011"/>
          <p:cNvPicPr/>
          <p:nvPr/>
        </p:nvPicPr>
        <p:blipFill>
          <a:blip r:embed="rId3"/>
          <a:stretch/>
        </p:blipFill>
        <p:spPr>
          <a:xfrm>
            <a:off x="7764480" y="5452920"/>
            <a:ext cx="1379520" cy="14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498600" y="3186000"/>
            <a:ext cx="8194680" cy="166680"/>
          </a:xfrm>
          <a:prstGeom prst="rect">
            <a:avLst/>
          </a:prstGeom>
          <a:solidFill>
            <a:srgbClr val="006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outline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PC Finals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5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A: 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B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C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D: Ninjas that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#times to use th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1 (start cas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/2 , (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1)/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2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|D|, |B| = |C| = 0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 = 0, |B| + |C| 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 |B| ≥ |C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&lt;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|B|/2, 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C|/2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b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a base case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cky to keep track of (ranges) of ninja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view defines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with treasure must be above or below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Basic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convex polygon from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mortized O(log m) p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every island with convex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(log m) time per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35680" y="2768760"/>
            <a:ext cx="2606760" cy="2346120"/>
          </a:xfrm>
          <a:custGeom>
            <a:avLst/>
            <a:gdLst/>
            <a:ahLst/>
            <a:rect l="l" t="t" r="r" b="b"/>
            <a:pathLst>
              <a:path w="1364" h="1163">
                <a:moveTo>
                  <a:pt x="875" y="0"/>
                </a:moveTo>
                <a:lnTo>
                  <a:pt x="332" y="54"/>
                </a:lnTo>
                <a:lnTo>
                  <a:pt x="0" y="370"/>
                </a:lnTo>
                <a:lnTo>
                  <a:pt x="60" y="913"/>
                </a:lnTo>
                <a:lnTo>
                  <a:pt x="669" y="1163"/>
                </a:lnTo>
                <a:lnTo>
                  <a:pt x="1304" y="870"/>
                </a:lnTo>
                <a:lnTo>
                  <a:pt x="1364" y="310"/>
                </a:lnTo>
                <a:lnTo>
                  <a:pt x="87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02400" y="2381040"/>
            <a:ext cx="2035080" cy="164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61240" y="2760840"/>
            <a:ext cx="2579400" cy="2352600"/>
          </a:xfrm>
          <a:custGeom>
            <a:avLst/>
            <a:gdLst/>
            <a:ahLst/>
            <a:rect l="l" t="t" r="r" b="b"/>
            <a:pathLst>
              <a:path w="1625" h="1482">
                <a:moveTo>
                  <a:pt x="1032" y="0"/>
                </a:moveTo>
                <a:lnTo>
                  <a:pt x="788" y="27"/>
                </a:lnTo>
                <a:lnTo>
                  <a:pt x="0" y="663"/>
                </a:lnTo>
                <a:lnTo>
                  <a:pt x="55" y="1164"/>
                </a:lnTo>
                <a:lnTo>
                  <a:pt x="788" y="1482"/>
                </a:lnTo>
                <a:lnTo>
                  <a:pt x="1553" y="1110"/>
                </a:lnTo>
                <a:lnTo>
                  <a:pt x="1625" y="398"/>
                </a:lnTo>
                <a:lnTo>
                  <a:pt x="1032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2960" y="3916440"/>
            <a:ext cx="54000" cy="540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89720" y="2751120"/>
            <a:ext cx="63720" cy="2290680"/>
            <a:chOff x="7389720" y="2751120"/>
            <a:chExt cx="63720" cy="2290680"/>
          </a:xfrm>
        </p:grpSpPr>
        <p:sp>
          <p:nvSpPr>
            <p:cNvPr id="196" name=""/>
            <p:cNvSpPr/>
            <p:nvPr/>
          </p:nvSpPr>
          <p:spPr>
            <a:xfrm>
              <a:off x="7418520" y="2778120"/>
              <a:ext cx="0" cy="2243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89720" y="27511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9440" y="498780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comes 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x + B becomes 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A, -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ness relation is p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line (view) is now 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wo convex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raham scan o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island is now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is valid if it doesn’t cross a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using binar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80200" y="2786040"/>
            <a:ext cx="2079720" cy="803160"/>
          </a:xfrm>
          <a:custGeom>
            <a:avLst/>
            <a:gdLst/>
            <a:ahLst/>
            <a:rect l="l" t="t" r="r" b="b"/>
            <a:pathLst>
              <a:path w="1310" h="506">
                <a:moveTo>
                  <a:pt x="0" y="22"/>
                </a:moveTo>
                <a:lnTo>
                  <a:pt x="0" y="201"/>
                </a:lnTo>
                <a:lnTo>
                  <a:pt x="310" y="435"/>
                </a:lnTo>
                <a:lnTo>
                  <a:pt x="853" y="506"/>
                </a:lnTo>
                <a:lnTo>
                  <a:pt x="1310" y="163"/>
                </a:lnTo>
                <a:lnTo>
                  <a:pt x="1310" y="0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70480" y="4657680"/>
            <a:ext cx="2019600" cy="966960"/>
          </a:xfrm>
          <a:custGeom>
            <a:avLst/>
            <a:gdLst/>
            <a:ahLst/>
            <a:rect l="l" t="t" r="r" b="b"/>
            <a:pathLst>
              <a:path w="1272" h="609">
                <a:moveTo>
                  <a:pt x="0" y="609"/>
                </a:moveTo>
                <a:lnTo>
                  <a:pt x="0" y="440"/>
                </a:lnTo>
                <a:lnTo>
                  <a:pt x="555" y="0"/>
                </a:lnTo>
                <a:lnTo>
                  <a:pt x="1272" y="207"/>
                </a:lnTo>
                <a:lnTo>
                  <a:pt x="1272" y="555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246720" y="3022560"/>
            <a:ext cx="2143080" cy="2363760"/>
            <a:chOff x="6246720" y="3022560"/>
            <a:chExt cx="2143080" cy="2363760"/>
          </a:xfrm>
        </p:grpSpPr>
        <p:sp>
          <p:nvSpPr>
            <p:cNvPr id="204" name=""/>
            <p:cNvSpPr/>
            <p:nvPr/>
          </p:nvSpPr>
          <p:spPr>
            <a:xfrm>
              <a:off x="6254640" y="3081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451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4080" y="3035160"/>
              <a:ext cx="5364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12200" y="3567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35800" y="302256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6720" y="5332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07320" y="51498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22960" y="463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67760" y="49658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581800" y="3330720"/>
            <a:ext cx="3243240" cy="201744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07000" y="3061800"/>
            <a:ext cx="3252960" cy="55260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J – Treasure Map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8120" y="11394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if and only 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4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dividers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y to s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73320" y="4948200"/>
            <a:ext cx="530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H – Walking the Plank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imul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queues on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iority queue fo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order of pirates is corre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imply handle all events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B – Quick out of the Harbour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 shortest pa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using Dijk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using B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 a standard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how need to expand single step into d+1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275520" y="3841920"/>
            <a:ext cx="487080" cy="582480"/>
          </a:xfrm>
          <a:custGeom>
            <a:avLst/>
            <a:gdLst/>
            <a:ahLst/>
            <a:rect l="l" t="t" r="r" b="b"/>
            <a:pathLst>
              <a:path w="307" h="367">
                <a:moveTo>
                  <a:pt x="307" y="242"/>
                </a:moveTo>
                <a:lnTo>
                  <a:pt x="181" y="367"/>
                </a:lnTo>
                <a:lnTo>
                  <a:pt x="0" y="195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nd mirror room to simulate reflection (bou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“rooms” wit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compute clos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ype of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sort and remove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out for over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1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65560" y="4226040"/>
            <a:ext cx="796680" cy="795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F – Ultimate Finishing Strik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275520" y="3635280"/>
            <a:ext cx="796680" cy="789120"/>
            <a:chOff x="6275520" y="3635280"/>
            <a:chExt cx="796680" cy="789120"/>
          </a:xfrm>
        </p:grpSpPr>
        <p:sp>
          <p:nvSpPr>
            <p:cNvPr id="100" name=""/>
            <p:cNvSpPr/>
            <p:nvPr/>
          </p:nvSpPr>
          <p:spPr>
            <a:xfrm>
              <a:off x="6275520" y="3635280"/>
              <a:ext cx="79668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8840" y="42037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8120" y="3814920"/>
              <a:ext cx="53640" cy="5364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276960" y="206064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4680" y="363852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172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7400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0680" y="363708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172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400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76960" y="521496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67280" y="2239920"/>
            <a:ext cx="3240000" cy="3208320"/>
            <a:chOff x="4967280" y="2239920"/>
            <a:chExt cx="3240000" cy="3208320"/>
          </a:xfrm>
        </p:grpSpPr>
        <p:sp>
          <p:nvSpPr>
            <p:cNvPr id="112" name=""/>
            <p:cNvSpPr/>
            <p:nvPr/>
          </p:nvSpPr>
          <p:spPr>
            <a:xfrm>
              <a:off x="6276960" y="2847960"/>
              <a:ext cx="79704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34084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22399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172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5476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38178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515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373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400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3912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5328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504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6960" y="4427640"/>
              <a:ext cx="79704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9560" y="49957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732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9560" y="539424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I – Parking Ship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ships must follow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P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minimum coordinate of right side of rightmost ship placin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hips of ships 1 ..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 if not fea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ship, decide to place it (if possible)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ship as far to the left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pecial case for captain (or solve two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Greedy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s next ship the one for which the right side is left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ies by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un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, but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DP) is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D – Bad Wiring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ping a switch twice does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is essentially a bi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backtracking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 switch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ome point light moves out of “wind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at point choice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time is O(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linear system i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not uniqu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mpute null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84840" y="4699080"/>
            <a:ext cx="3435120" cy="322200"/>
            <a:chOff x="4884840" y="4699080"/>
            <a:chExt cx="3435120" cy="3222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5256360" y="47084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6048360" y="4707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6453360" y="47149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8691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7661160" y="47149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8015400" y="4707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4884840" y="46990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5653080" y="4708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>
              <a:off x="72579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4094280" y="4657680"/>
            <a:ext cx="188892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0.08403 -2.96296E-006 E">
                                      <p:cBhvr>
                                        <p:cTn id="23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ll balloons as circular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some geometric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canonical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ine passes through endpoint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set of lines piercing all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starting line (try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rest gree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n log n)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A – Popping Balloon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51480" y="3494160"/>
            <a:ext cx="2890800" cy="2398680"/>
            <a:chOff x="4551480" y="3494160"/>
            <a:chExt cx="2890800" cy="2398680"/>
          </a:xfrm>
        </p:grpSpPr>
        <p:sp>
          <p:nvSpPr>
            <p:cNvPr id="146" name=""/>
            <p:cNvSpPr/>
            <p:nvPr/>
          </p:nvSpPr>
          <p:spPr>
            <a:xfrm>
              <a:off x="6081840" y="4815000"/>
              <a:ext cx="36360" cy="363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54760" y="39178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62760" y="378612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51480" y="471816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67360" y="497844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73600" y="349416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88240" y="519120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460760" y="3193920"/>
            <a:ext cx="3238560" cy="3238560"/>
          </a:xfrm>
          <a:prstGeom prst="ellipse">
            <a:avLst/>
          </a:prstGeom>
          <a:noFill/>
          <a:ln w="19080">
            <a:solidFill>
              <a:srgbClr val="d6004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27120" y="3044520"/>
            <a:ext cx="3355560" cy="3451320"/>
            <a:chOff x="4227120" y="3044520"/>
            <a:chExt cx="3355560" cy="3451320"/>
          </a:xfrm>
        </p:grpSpPr>
        <p:sp>
          <p:nvSpPr>
            <p:cNvPr id="155" name=""/>
            <p:cNvSpPr/>
            <p:nvPr/>
          </p:nvSpPr>
          <p:spPr>
            <a:xfrm flipH="1">
              <a:off x="4227120" y="481320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5632200" y="3044520"/>
              <a:ext cx="3636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22880" y="3111120"/>
              <a:ext cx="3259800" cy="33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2"/>
                  </a:moveTo>
                  <a:arcTo wR="10800" hR="10800" stAng="10799360" swAng="4762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2"/>
                  </a:moveTo>
                  <a:arcTo wR="10800" hR="10800" stAng="10799360" swAng="476284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211280" y="2924280"/>
            <a:ext cx="3598200" cy="3641400"/>
            <a:chOff x="4211280" y="2924280"/>
            <a:chExt cx="3598200" cy="3641400"/>
          </a:xfrm>
        </p:grpSpPr>
        <p:sp>
          <p:nvSpPr>
            <p:cNvPr id="159" name=""/>
            <p:cNvSpPr/>
            <p:nvPr/>
          </p:nvSpPr>
          <p:spPr>
            <a:xfrm flipH="1" flipV="1">
              <a:off x="5332320" y="3003480"/>
              <a:ext cx="6840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315120" y="2924280"/>
              <a:ext cx="252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1280" y="2965320"/>
              <a:ext cx="359820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21" y="721"/>
                  </a:moveTo>
                  <a:arcTo wR="10800" hR="10800" stAng="-6662972" swAng="1885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921" y="721"/>
                  </a:moveTo>
                  <a:arcTo wR="10800" hR="10800" stAng="-6662972" swAng="188529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76720" y="3009960"/>
            <a:ext cx="3656160" cy="3688560"/>
            <a:chOff x="4176720" y="3009960"/>
            <a:chExt cx="3656160" cy="3688560"/>
          </a:xfrm>
        </p:grpSpPr>
        <p:sp>
          <p:nvSpPr>
            <p:cNvPr id="163" name=""/>
            <p:cNvSpPr/>
            <p:nvPr/>
          </p:nvSpPr>
          <p:spPr>
            <a:xfrm flipH="1" flipV="1">
              <a:off x="5996160" y="3009960"/>
              <a:ext cx="792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59720" y="4330440"/>
              <a:ext cx="1731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720" y="3098880"/>
              <a:ext cx="3654360" cy="359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60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60098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252680" y="2931840"/>
            <a:ext cx="3600360" cy="3667320"/>
            <a:chOff x="4252680" y="2931840"/>
            <a:chExt cx="3600360" cy="3667320"/>
          </a:xfrm>
        </p:grpSpPr>
        <p:sp>
          <p:nvSpPr>
            <p:cNvPr id="167" name=""/>
            <p:cNvSpPr/>
            <p:nvPr/>
          </p:nvSpPr>
          <p:spPr>
            <a:xfrm>
              <a:off x="7626240" y="5375160"/>
              <a:ext cx="181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67120" y="6410160"/>
              <a:ext cx="3492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52680" y="2931840"/>
              <a:ext cx="360036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99" y="14882"/>
                  </a:moveTo>
                  <a:arcTo wR="10800" hR="10800" stAng="1332566" swAng="4775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99" y="14882"/>
                  </a:moveTo>
                  <a:arcTo wR="10800" hR="10800" stAng="1332566" swAng="4775344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34400" y="3090240"/>
            <a:ext cx="3636360" cy="3598200"/>
            <a:chOff x="4334400" y="3090240"/>
            <a:chExt cx="3636360" cy="3598200"/>
          </a:xfrm>
        </p:grpSpPr>
        <p:sp>
          <p:nvSpPr>
            <p:cNvPr id="171" name=""/>
            <p:cNvSpPr/>
            <p:nvPr/>
          </p:nvSpPr>
          <p:spPr>
            <a:xfrm>
              <a:off x="7790040" y="5375160"/>
              <a:ext cx="1807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2960" y="6056280"/>
              <a:ext cx="1382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400" y="3090240"/>
              <a:ext cx="3614760" cy="359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9" y="13921"/>
                  </a:moveTo>
                  <a:arcTo wR="10800" hR="10800" stAng="1007919" swAng="15967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9" y="13921"/>
                  </a:moveTo>
                  <a:arcTo wR="10800" hR="10800" stAng="1007919" swAng="159670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088880" y="2848680"/>
            <a:ext cx="3843720" cy="3847680"/>
            <a:chOff x="4088880" y="2848680"/>
            <a:chExt cx="3843720" cy="3847680"/>
          </a:xfrm>
        </p:grpSpPr>
        <p:sp>
          <p:nvSpPr>
            <p:cNvPr id="175" name=""/>
            <p:cNvSpPr/>
            <p:nvPr/>
          </p:nvSpPr>
          <p:spPr>
            <a:xfrm flipH="1" flipV="1">
              <a:off x="4088880" y="4614480"/>
              <a:ext cx="17316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587840" y="6014880"/>
              <a:ext cx="130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0880" y="2848680"/>
              <a:ext cx="3771720" cy="384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36" y="18095"/>
                  </a:moveTo>
                  <a:arcTo wR="10800" hR="10800" stAng="8250613" swAng="2799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36" y="18095"/>
                  </a:moveTo>
                  <a:arcTo wR="10800" hR="10800" stAng="8250613" swAng="2799697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6099120" y="2734920"/>
            <a:ext cx="103320" cy="209556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9120" y="2742840"/>
            <a:ext cx="258840" cy="208764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9120" y="4830840"/>
            <a:ext cx="1500120" cy="142380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054320" y="4606920"/>
            <a:ext cx="2044800" cy="22392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G – Doubloon gam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nother NIM-var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Shuriken Game from Prelim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DP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nimbers” from impartial gam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0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eans you 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mex( {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|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wer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)) mo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olution is 1 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imple Solu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recognize pattern and mak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63880" y="4421160"/>
            <a:ext cx="177840" cy="642960"/>
          </a:xfrm>
          <a:custGeom>
            <a:avLst/>
            <a:gdLst/>
            <a:ahLst/>
            <a:rect l="l" t="t" r="r" b="b"/>
            <a:pathLst>
              <a:path w="112" h="405">
                <a:moveTo>
                  <a:pt x="112" y="2"/>
                </a:moveTo>
                <a:cubicBezTo>
                  <a:pt x="104" y="5"/>
                  <a:pt x="71" y="0"/>
                  <a:pt x="61" y="25"/>
                </a:cubicBezTo>
                <a:cubicBezTo>
                  <a:pt x="51" y="50"/>
                  <a:pt x="61" y="125"/>
                  <a:pt x="51" y="151"/>
                </a:cubicBezTo>
                <a:cubicBezTo>
                  <a:pt x="41" y="177"/>
                  <a:pt x="0" y="169"/>
                  <a:pt x="0" y="179"/>
                </a:cubicBezTo>
                <a:cubicBezTo>
                  <a:pt x="0" y="189"/>
                  <a:pt x="42" y="179"/>
                  <a:pt x="51" y="211"/>
                </a:cubicBezTo>
                <a:cubicBezTo>
                  <a:pt x="60" y="243"/>
                  <a:pt x="46" y="343"/>
                  <a:pt x="56" y="374"/>
                </a:cubicBezTo>
                <a:cubicBezTo>
                  <a:pt x="66" y="405"/>
                  <a:pt x="88" y="400"/>
                  <a:pt x="112" y="39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0:16Z</dcterms:created>
  <dc:creator>BCF</dc:creator>
  <dc:description>Design by Volle Kracht
Template by Orange Pepper BV
Copyright 2008</dc:description>
  <dc:language>en-US</dc:language>
  <cp:lastModifiedBy>BCF</cp:lastModifiedBy>
  <dcterms:modified xsi:type="dcterms:W3CDTF">2011-10-10T12:13:05Z</dcterms:modified>
  <cp:revision>626</cp:revision>
  <dc:subject/>
  <dc:title>Area-Universal  Rectangular Layouts</dc:title>
</cp:coreProperties>
</file>