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361-9CD1-4428-BB23-9D7014F7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308-D0A1-46F6-98BE-2F2B0F8D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C2E-C42C-4672-8209-F6BCAD1D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A15-C2EC-43C8-8F75-F08D103A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EA20-B0E0-4832-9AA9-BC5A74E0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70D3-623D-45A0-9C98-96BBE517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D0DB-EB34-44ED-848B-DCAE2B61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9DEC-F71B-4F25-B30E-0F297647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A5F1-91BC-4E16-9278-948838F2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162C-C7D9-4941-81B2-196030DA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2B61-377D-45F7-97C5-462AC4A0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A08-3C97-4522-B82F-F2145C4F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D38A-CD04-4028-B63D-1CF5D09F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9E76-8483-47B5-8F50-1EB09568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C752-CEDC-4DA9-834F-A0FB4C9B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2F4B-8C85-419C-8942-9D708F52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256D-47C9-4DE5-BAB2-2BF34872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63A-65C7-4EC3-B7DC-D5662B6E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575-1B40-4453-9086-B1296F1E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19F-A153-49CC-96A5-8881F4CD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B67-84D8-418A-83E6-B10DC670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5EC-6126-4709-8763-30EA9DBF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AB8-A170-45F7-A8D0-3E280168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FC22-2778-46C4-9EE9-934E6588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AC8E-D231-46F0-9215-7444DC5E040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31A8-7AAC-4990-AECC-8151B305DDF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226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ample</a:t>
            </a:r>
            <a:br>
              <a:rPr sz="8000"/>
            </a:b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olutions</a:t>
            </a:r>
            <a:br>
              <a:rPr sz="80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ntral Europe Regional Contest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a circle that covers most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may not be in an existing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ution will always touch 2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365760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800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6019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 all pairs, find a circ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n all other points must be tes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35053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114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4038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47242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39625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4876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197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each point, use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wee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techniq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„interesting angles“ and sort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39625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14600" y="289548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5053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42900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52880" y="6324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7242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ne sorting for each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cs-CZ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. log 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"/>
              </a:rPr>
              <a:t>Carefull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y with floating point numbers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981080" y="1981080"/>
            <a:ext cx="51055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H: Hexago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11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ll combinations of 2 green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505320"/>
            <a:ext cx="175248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666880" y="4114800"/>
            <a:ext cx="137160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038120" y="3886200"/>
            <a:ext cx="121932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57800" y="2895480"/>
            <a:ext cx="182880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257800" y="3886200"/>
            <a:ext cx="175248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3048120"/>
            <a:ext cx="18288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5410080"/>
            <a:ext cx="18288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2590920"/>
            <a:ext cx="182880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72200" y="4495680"/>
            <a:ext cx="1828800" cy="9144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3962520"/>
            <a:ext cx="30492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3733920"/>
            <a:ext cx="30456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Handle “special” ca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3581280"/>
            <a:ext cx="320040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4120" y="3352680"/>
            <a:ext cx="182880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334120" y="4343400"/>
            <a:ext cx="175248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3124080"/>
            <a:ext cx="18288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748200">
            <a:off x="2361960" y="3580920"/>
            <a:ext cx="18288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048120"/>
            <a:ext cx="182880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4952880"/>
            <a:ext cx="1828800" cy="9144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81480" y="4191120"/>
            <a:ext cx="30492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Solution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ynamic Programm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or all area subsets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), find the best solution using each parc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K: Key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209680" y="2209680"/>
          <a:ext cx="4800600" cy="4038840"/>
        </p:xfrm>
        <a:graphic>
          <a:graphicData uri="http://schemas.openxmlformats.org/drawingml/2006/table">
            <a:tbl>
              <a:tblPr/>
              <a:tblGrid>
                <a:gridCol w="479520"/>
                <a:gridCol w="480960"/>
                <a:gridCol w="479520"/>
                <a:gridCol w="480960"/>
                <a:gridCol w="479520"/>
                <a:gridCol w="479520"/>
                <a:gridCol w="480960"/>
                <a:gridCol w="479160"/>
                <a:gridCol w="481320"/>
                <a:gridCol w="4791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!!!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s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Breadth-First sea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mbination of position and keys (!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4 keys =&gt; 16 combin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B: Billboard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666880" y="2438280"/>
          <a:ext cx="3581640" cy="3125880"/>
        </p:xfrm>
        <a:graphic>
          <a:graphicData uri="http://schemas.openxmlformats.org/drawingml/2006/table">
            <a:tbl>
              <a:tblPr/>
              <a:tblGrid>
                <a:gridCol w="400320"/>
                <a:gridCol w="395280"/>
                <a:gridCol w="347400"/>
                <a:gridCol w="449280"/>
                <a:gridCol w="397080"/>
                <a:gridCol w="398520"/>
                <a:gridCol w="398160"/>
                <a:gridCol w="395280"/>
                <a:gridCol w="40032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s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on (1,7) +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Ke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,8) +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ello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,6) +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343400" y="2819520"/>
          <a:ext cx="4268880" cy="3554280"/>
        </p:xfrm>
        <a:graphic>
          <a:graphicData uri="http://schemas.openxmlformats.org/drawingml/2006/table">
            <a:tbl>
              <a:tblPr/>
              <a:tblGrid>
                <a:gridCol w="427320"/>
                <a:gridCol w="426960"/>
                <a:gridCol w="425520"/>
                <a:gridCol w="428400"/>
                <a:gridCol w="426960"/>
                <a:gridCol w="425520"/>
                <a:gridCol w="428760"/>
                <a:gridCol w="425520"/>
                <a:gridCol w="426960"/>
                <a:gridCol w="426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!!!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7162920" y="30481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553080" y="30481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086600" y="25146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31240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L: Logic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380988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? There is no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” follow the conne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e logical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otential Pitf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tes with no inp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OR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otential Pitf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litting and joining path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We must remember, what has already been compu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096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096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096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812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5812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812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812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528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28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244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244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244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244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3244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244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244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960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960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960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960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960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960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96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960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6960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384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816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N: Number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3733920"/>
            <a:ext cx="6095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101010100101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-2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= -1090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umbers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cim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the formula in the problem stat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257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-4000 + 200 – 50 + 7 = -384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umbers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cim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remainders (modul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areful with the negative number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237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42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423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-4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3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4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-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&gt; </a:t>
            </a: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1637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P: Polygo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2819520"/>
            <a:ext cx="0" cy="25905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5410080"/>
            <a:ext cx="3657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400800" y="3809520"/>
            <a:ext cx="0" cy="1600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572000" y="3809880"/>
            <a:ext cx="18288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3809880"/>
            <a:ext cx="0" cy="6098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2819160"/>
            <a:ext cx="0" cy="1600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43200" y="2819520"/>
            <a:ext cx="8380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order of polygon vert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47920" y="1523880"/>
          <a:ext cx="1904760" cy="1828800"/>
        </p:xfrm>
        <a:graphic>
          <a:graphicData uri="http://schemas.openxmlformats.org/drawingml/2006/table">
            <a:tbl>
              <a:tblPr/>
              <a:tblGrid>
                <a:gridCol w="666720"/>
                <a:gridCol w="658800"/>
                <a:gridCol w="579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638680" y="1523880"/>
          <a:ext cx="1904760" cy="1828800"/>
        </p:xfrm>
        <a:graphic>
          <a:graphicData uri="http://schemas.openxmlformats.org/drawingml/2006/table">
            <a:tbl>
              <a:tblPr/>
              <a:tblGrid>
                <a:gridCol w="666720"/>
                <a:gridCol w="658800"/>
                <a:gridCol w="579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 rot="16200000">
            <a:off x="4038480" y="1904400"/>
            <a:ext cx="990360" cy="990720"/>
          </a:xfrm>
          <a:prstGeom prst="downArrow">
            <a:avLst>
              <a:gd name="adj1" fmla="val 39722"/>
              <a:gd name="adj2" fmla="val 46971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3886200"/>
            <a:ext cx="8226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est all existing subse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cs-CZ" sz="3200" spc="-1" strike="noStrike" baseline="30000">
                <a:solidFill>
                  <a:srgbClr val="ffffff"/>
                </a:solidFill>
                <a:latin typeface="Arial"/>
              </a:rPr>
              <a:t>256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possibiliti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or the 16x16 boar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rt the vertices by their X coordin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5480" y="3886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Find their horizontal neigh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95480" y="3886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38098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43200" y="28195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5410080"/>
            <a:ext cx="35049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rt by Y =&gt; vertical neigh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4495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3733920"/>
            <a:ext cx="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743200" y="2819520"/>
            <a:ext cx="0" cy="25905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24480" y="38098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1371600"/>
            <a:ext cx="8226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, each vertex knows its neighb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rt with the first, and walk a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666880" y="28954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3520" y="1371600"/>
            <a:ext cx="8226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nt Left / Right tur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Left &gt; Right 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counter-clockwi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666880" y="28954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743200" y="2895480"/>
            <a:ext cx="0" cy="259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743200" y="5410080"/>
            <a:ext cx="3581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324480" y="380952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5638320" y="380988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81080" y="2743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2666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5029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77120" y="510552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477120" y="3429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971800" y="3809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R: Roshambo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495680" cy="359712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: Robotic Sort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19920" cy="388620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ive approach – reverse in an arr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ttle bit better: remember revers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dratic time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00 00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838080" y="3809880"/>
          <a:ext cx="7391520" cy="68580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25" name=""/>
          <p:cNvSpPr/>
          <p:nvPr/>
        </p:nvSpPr>
        <p:spPr>
          <a:xfrm>
            <a:off x="4191120" y="4724280"/>
            <a:ext cx="733320" cy="609840"/>
          </a:xfrm>
          <a:prstGeom prst="downArrow">
            <a:avLst>
              <a:gd name="adj1" fmla="val 31731"/>
              <a:gd name="adj2" fmla="val 56769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838080" y="5562720"/>
          <a:ext cx="7391520" cy="68580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Another Approa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uble-linked li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 finding the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„forward direction“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09680" y="3429000"/>
            <a:ext cx="5335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00400" y="3429000"/>
            <a:ext cx="5335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911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1055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19920" y="34290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4290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7524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4320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3392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242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6386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5530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17524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74320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7339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6483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55627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5530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0968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199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01028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524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74320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3392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553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1752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4320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339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6483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621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6553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4380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7467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54380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74674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791320" y="48002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62120" y="57146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761760" y="6324480"/>
            <a:ext cx="5105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867280" y="57146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867280" y="5715000"/>
            <a:ext cx="152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790960" y="541008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762120" y="4800600"/>
            <a:ext cx="5029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267080" y="4343400"/>
            <a:ext cx="733680" cy="609480"/>
          </a:xfrm>
          <a:prstGeom prst="downArrow">
            <a:avLst>
              <a:gd name="adj1" fmla="val 31731"/>
              <a:gd name="adj2" fmla="val 56769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2120" y="48002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mbined solu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use bo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ked li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array of revers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rray time: O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v_befo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SQRT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steps: reor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.SQRT(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ti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19720"/>
            <a:ext cx="8226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f we somehow knew the tapped tiles in the first row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possibilities - ??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val Tre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W: Water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214800" cy="403848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enter of M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ount of water with the lowest cen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581280" y="4114800"/>
            <a:ext cx="1524240" cy="1219320"/>
          </a:xfrm>
          <a:custGeom>
            <a:avLst/>
            <a:gdLst>
              <a:gd name="textAreaLeft" fmla="*/ 336960 w 1524240"/>
              <a:gd name="textAreaRight" fmla="*/ 1187280 w 1524240"/>
              <a:gd name="textAreaTop" fmla="*/ 269640 h 1219320"/>
              <a:gd name="textAreaBottom" fmla="*/ 94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153" y="21600"/>
                </a:lnTo>
                <a:lnTo>
                  <a:pt x="5447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lit the glass into horizontal sl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me of one slice: </a:t>
            </a:r>
            <a:r>
              <a:rPr b="1" lang="el-GR" sz="3200" spc="-1" strike="noStrike">
                <a:solidFill>
                  <a:srgbClr val="ffff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r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05120" y="37339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35053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905120" y="39625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05120" y="41911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4197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905120" y="46483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05120" y="48769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05120" y="51055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3341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895480" y="3505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71800" y="3733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048120" y="39625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124080" y="41911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44197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4648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352680" y="4876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52680" y="5105520"/>
            <a:ext cx="5335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5334120"/>
            <a:ext cx="18288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581280" y="4191120"/>
            <a:ext cx="1447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of Mass of the gl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of all sl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3505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971800" y="3733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048120" y="39625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24080" y="41911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44197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4648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352680" y="4876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5105520"/>
            <a:ext cx="5335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29000" y="5334120"/>
            <a:ext cx="18288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5562720"/>
            <a:ext cx="16761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 the water “slowl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of water m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91120" y="4952880"/>
            <a:ext cx="30456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bine both center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weighted averag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191120" y="4952880"/>
            <a:ext cx="30456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191120" y="4343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33920" y="46483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reached the center ? =&gt;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END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Linear time needed only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91120" y="4876920"/>
            <a:ext cx="304560" cy="304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191120" y="4495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ff"/>
                </a:solidFill>
                <a:latin typeface="Arial"/>
              </a:rPr>
              <a:t>Statistics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1447920" y="1981080"/>
          <a:ext cx="5910120" cy="4348440"/>
        </p:xfrm>
        <a:graphic>
          <a:graphicData uri="http://schemas.openxmlformats.org/drawingml/2006/table">
            <a:tbl>
              <a:tblPr/>
              <a:tblGrid>
                <a:gridCol w="1616040"/>
                <a:gridCol w="858600"/>
                <a:gridCol w="858960"/>
                <a:gridCol w="858960"/>
                <a:gridCol w="858600"/>
                <a:gridCol w="85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lboar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el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xag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ey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gi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lyg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oshamb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r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try what happens with the r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W! It is easy to find the second one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try what happens with the r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W! It is easy to find the second one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’s also do it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hird row becomes evid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so 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k, but how to find the first row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We will try all possibilities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* 16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00200" y="2438280"/>
            <a:ext cx="6095880" cy="36576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C: Phone Cell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9024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0:40:39Z</dcterms:created>
  <dc:creator>Martin Kacer</dc:creator>
  <dc:description/>
  <dc:language>en-US</dc:language>
  <cp:lastModifiedBy>Martin Kačer</cp:lastModifiedBy>
  <dcterms:modified xsi:type="dcterms:W3CDTF">2007-11-15T09:14:24Z</dcterms:modified>
  <cp:revision>115</cp:revision>
  <dc:subject/>
  <dc:title>Slide 1</dc:title>
</cp:coreProperties>
</file>